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1CA-F879-4DB6-B12F-5A9048D1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E04-433C-4EEE-A535-D1048314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F1B-4EB1-47DE-BAD6-936B9BC2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B8C-8B6E-4ABD-80DE-FC7B5F32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C7A5-E371-4E56-BC46-5171E93E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7626-8E88-49BC-82EB-86F9A580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82ED-E185-4BCE-8741-1B27CD51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B5AB-9F8B-4E1A-A0DB-309B9423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338E-DC8C-4B6A-B00D-9D4EFCB9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8CDC-D124-4879-8E54-F6EE361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E205-0DAD-4ADF-A84A-5DB427F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BB0-0B36-43E9-B1D4-3B1DBA32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3AC6-D570-490B-B8C6-721F30A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0AA6-F07B-455F-AF53-E34EDD9C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79D-94C2-4B76-9A19-80B9BC05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717B-8DB4-4F88-A4F2-5A45C834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E1DF-95D7-496C-97B4-DC8B6180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7A4-1204-4C33-B1CB-96409B84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82C-8C69-4D34-9DDC-4834DAE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E18-6FBE-47B9-9BF6-6834BB5F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BC7-39C1-4337-958E-F5FE54AC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DDE-AF6A-4768-81B4-0B3E3BBB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22B-2C3D-46D3-9398-5F88DA35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4D1-A162-4F76-9888-2088648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623B-46EC-4762-AD8A-1823A07C8AB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11E-2118-4C48-A6B9-9626A3390CC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bskids.org/itsmylife/celeebs/audio/taylor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: Data Collection: Interview Techni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Ask to the chosen respondent/s an appointment: time, venue, permission to record etc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interviewer decide the venue should be prepared with a friendly atmosphere, not noisy, neutral without influences for the interview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Estimate the length of the inter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ou cannot conduct it in 2 times or be interrupted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Record the inter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ortant to listen and transcribe the answer to code them easi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Arial"/>
              </a:rPr>
              <a:t>Notice the interviewee behaviour, attitudes.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cc"/>
                </a:solidFill>
                <a:latin typeface="Arial"/>
              </a:rPr>
              <a:t>Make a blue/pri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90092"/>
                </a:solidFill>
                <a:latin typeface="Arial"/>
              </a:rPr>
              <a:t>Remember questions should b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66"/>
                </a:solidFill>
                <a:latin typeface="Arial"/>
              </a:rPr>
              <a:t>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Non l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Arial"/>
              </a:rPr>
              <a:t>Avoid jarg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One at a ti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Use KISS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collect interview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Before designing the int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the purp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The results you need to 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the methods of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how to present results/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Interview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How to collect interview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Choose a topic of your inter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Design an interview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Defining what is the 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Define how you will collec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efine how you will analyz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Arial"/>
              </a:rPr>
              <a:t>Define how you will presen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785880" y="4202280"/>
            <a:ext cx="4967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106560" bIns="1065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pbskids.org/itsmylife/celeebs/audio/taylo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Recall prior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Types of questions i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Types of questions i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Examples of the 3 types of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Analyzing an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Interviewer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all prior knowled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is a surv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method used for survey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ased on what we choose the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advantages of each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tool used in each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questions in 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Structured interview (close/e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Unstructured interview (open/e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Semi/Structured interview (mix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What are the advantages and disadvantages of these types of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ow to ask th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Examples of the 3 types of questions</a:t>
            </a:r>
            <a:r>
              <a:rPr b="1" lang="en-US" sz="3900" spc="-1" strike="noStrike">
                <a:solidFill>
                  <a:srgbClr val="3366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tructured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Do you think that Qatar should bid for the 2016 Olympics? Semi/Structured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Likert scale, Dichotomu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Un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Arial"/>
              </a:rPr>
              <a:t>What do you think about Qatar biding for the 2016 Olymp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Semi/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Do you think that Qatar should bid for the 2016 Olympics?……..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yzing an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Arial"/>
              </a:rPr>
              <a:t>Activity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e the transcript of the int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ff"/>
                </a:solidFill>
                <a:latin typeface="Arial"/>
              </a:rPr>
              <a:t>What type of interview is this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66ff"/>
                </a:solidFill>
                <a:latin typeface="Arial"/>
              </a:rPr>
              <a:t>(Structured, Unstructured or semi/structur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Arial"/>
              </a:rPr>
              <a:t>Which are open/ended and which close/ended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Are the questions biased/leading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er ski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iewer mu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Make the interviewee feel comfor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Be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Notice all gestures, facial expressions, behaviours and attitude of interviewe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Understand when it is necessary to ask open/ended questions to have better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66"/>
                </a:solidFill>
                <a:latin typeface="Arial"/>
              </a:rPr>
              <a:t>Do not influence the interviewee with your 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Arial"/>
              </a:rPr>
              <a:t>Make the seg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esig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Arial"/>
              </a:rPr>
              <a:t>Seek for “Informed Consent”of chosen respondent/s if they agree to be interviewed, explain the purpose and inform them about all they need to know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see ethics of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5-25T08:06:09Z</dcterms:modified>
  <cp:revision>59</cp:revision>
  <dc:subject/>
  <dc:title>Course: Fundamentals of Research</dc:title>
</cp:coreProperties>
</file>